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112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7400" y="0"/>
            <a:ext cx="29509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43520"/>
            <a:ext cx="295128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7400" y="9443520"/>
            <a:ext cx="295092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BC836-A5D5-41E3-9A2A-334AB0CFF41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FCB21-07E0-4BF1-A05A-CBDBC3F2E60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36682-8879-43B4-992A-3E7EBF5BC4D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382CA-BD37-47FF-B871-A2DBFDB7BBB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8A2D0-93DF-4786-8442-767B4C61A5E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9504D-548C-486E-BCEC-06BB33DCB1B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F2AA6-4565-44EA-BEF7-28389D94F63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EEAB0-48FE-4BDF-BB20-0DEF838AFBF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D5935-350F-4B57-90A9-265BFD04679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380F4-0B80-4DB6-B6C9-EE58620510A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7A2CA-A317-47C1-9F7A-5B7E738074D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A39E9-3BA3-4090-9F5E-6145AE9F78F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9D4D-9212-40ED-AA04-A904E7EF5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0A5D-7466-4D5C-A797-ACB4279C1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249D-74D5-45E9-9E65-12A9538E7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D7D3-B35E-408A-A465-CE56D0A2E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25CB-9061-4708-9F11-332C0A8A1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44B4-152D-4443-AA27-A5300C33C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DEC7-7A93-4B82-93DF-0741DE709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AA96-8555-4C6F-9A02-F3113BF38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BA1B-12BB-4A24-BE70-AF25A886A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A799-47E8-41DF-8E76-9BEA993F7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8116-FD7C-47FF-969B-A95FC4985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3AFE-0B5C-4FD3-BE4E-F05EE7643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FC93D-7095-4FFB-92FE-F040C5100E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0"/>
            <a:ext cx="9144000" cy="257184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50" name="Group 4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51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Group 18"/>
          <p:cNvGrpSpPr/>
          <p:nvPr/>
        </p:nvGrpSpPr>
        <p:grpSpPr>
          <a:xfrm>
            <a:off x="0" y="2571840"/>
            <a:ext cx="9144000" cy="269640"/>
            <a:chOff x="0" y="2571840"/>
            <a:chExt cx="9144000" cy="269640"/>
          </a:xfrm>
        </p:grpSpPr>
        <p:sp>
          <p:nvSpPr>
            <p:cNvPr id="55" name="Rectangle 19"/>
            <p:cNvSpPr/>
            <p:nvPr/>
          </p:nvSpPr>
          <p:spPr>
            <a:xfrm>
              <a:off x="0" y="2571840"/>
              <a:ext cx="1314360" cy="26964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1304640" y="2571840"/>
              <a:ext cx="1314360" cy="26964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21"/>
            <p:cNvSpPr/>
            <p:nvPr/>
          </p:nvSpPr>
          <p:spPr>
            <a:xfrm>
              <a:off x="2609640" y="2571840"/>
              <a:ext cx="1314360" cy="26964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22"/>
            <p:cNvSpPr/>
            <p:nvPr/>
          </p:nvSpPr>
          <p:spPr>
            <a:xfrm>
              <a:off x="3903480" y="2571840"/>
              <a:ext cx="1315800" cy="26964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23"/>
            <p:cNvSpPr/>
            <p:nvPr/>
          </p:nvSpPr>
          <p:spPr>
            <a:xfrm>
              <a:off x="5208480" y="2571840"/>
              <a:ext cx="1315800" cy="26964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24"/>
            <p:cNvSpPr/>
            <p:nvPr/>
          </p:nvSpPr>
          <p:spPr>
            <a:xfrm>
              <a:off x="6524640" y="2571840"/>
              <a:ext cx="1314360" cy="26964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25"/>
            <p:cNvSpPr/>
            <p:nvPr/>
          </p:nvSpPr>
          <p:spPr>
            <a:xfrm>
              <a:off x="7829640" y="2571840"/>
              <a:ext cx="1314360" cy="26964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0040" y="5000760"/>
            <a:ext cx="7858080" cy="171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Guido RAVOET, EBF Secretary Gener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f497d"/>
                </a:solidFill>
                <a:latin typeface="Calibri"/>
              </a:rPr>
              <a:t>30th EBF Associates’ Meet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f497d"/>
                </a:solidFill>
                <a:latin typeface="Calibri"/>
              </a:rPr>
              <a:t>Baku, Azerbaijan - 28 May 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0" y="2714760"/>
            <a:ext cx="9144000" cy="23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f497d"/>
                </a:solidFill>
                <a:latin typeface="Calibri"/>
              </a:rPr>
              <a:t>Financial Modernisation Project in the EBF Associate countries and their alignment with the EU </a:t>
            </a:r>
            <a:r>
              <a:rPr b="1" i="1" lang="en-GB" sz="3600" spc="-1" strike="noStrike">
                <a:solidFill>
                  <a:srgbClr val="1f497d"/>
                </a:solidFill>
                <a:latin typeface="Calibri"/>
              </a:rPr>
              <a:t>Acqui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Associates’ participation requirem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86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187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91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Rectangle 16"/>
          <p:cNvSpPr/>
          <p:nvPr/>
        </p:nvSpPr>
        <p:spPr>
          <a:xfrm>
            <a:off x="214200" y="1571760"/>
            <a:ext cx="8572680" cy="43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Develop a national agenda of implementation on the EU financial services </a:t>
            </a:r>
            <a:r>
              <a:rPr b="0" i="1" lang="en-GB" sz="2000" spc="-1" strike="noStrike">
                <a:solidFill>
                  <a:srgbClr val="1f497d"/>
                </a:solidFill>
                <a:latin typeface="Calibri"/>
              </a:rPr>
              <a:t>acquis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, based on cooperation between your NA and respective authoriti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Correlate your agendas with those of other NBAs of the regio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Assess the extent of your participation in the projec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Acquire full backing of your respective Board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Follow the procedure for the EU Grant applicatio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Contribute necessary documentation for the specific applicatio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Provide required co-funding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Ensure continuous commitment to the project (max duration 24 months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Comply with the EU rules applicable to the co-funded proje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920" y="1428840"/>
            <a:ext cx="8858160" cy="43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omments? </a:t>
            </a:r>
            <a:br>
              <a:rPr sz="3200"/>
            </a:b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Questions? </a:t>
            </a:r>
            <a:br>
              <a:rPr sz="3200"/>
            </a:b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Expressions of interes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1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202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203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207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WHAT WE STAND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46c0a"/>
                </a:solidFill>
                <a:latin typeface="Monotype Corsiva"/>
              </a:rPr>
              <a:t>50 years </a:t>
            </a:r>
            <a:br>
              <a:rPr sz="3600"/>
            </a:br>
            <a:r>
              <a:rPr b="0" lang="nl-BE" sz="3600" spc="-1" strike="noStrike">
                <a:solidFill>
                  <a:srgbClr val="1f497d"/>
                </a:solidFill>
                <a:latin typeface="Calibri"/>
              </a:rPr>
              <a:t>of sound banking representation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0" lang="nl-BE" sz="3600" spc="-1" strike="noStrike">
                <a:solidFill>
                  <a:srgbClr val="1f497d"/>
                </a:solidFill>
                <a:latin typeface="Calibri"/>
              </a:rPr>
              <a:t>We aim to achieve an integrated European financial services marke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67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68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72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Key P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81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82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86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17"/>
          <p:cNvSpPr/>
          <p:nvPr/>
        </p:nvSpPr>
        <p:spPr>
          <a:xfrm>
            <a:off x="142920" y="1928880"/>
            <a:ext cx="8858160" cy="39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High demand for EU co-funding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Focal points of the EU Call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Quality of participation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Minimum threshold number of Project Partner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Strict co-funding requirement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The EBF commitmen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Your intere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46c0a"/>
                </a:solidFill>
                <a:latin typeface="Calibri"/>
              </a:rPr>
              <a:t>EU funds are in high dem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96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97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01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Rectangle 17"/>
          <p:cNvSpPr/>
          <p:nvPr/>
        </p:nvSpPr>
        <p:spPr>
          <a:xfrm>
            <a:off x="142920" y="1932120"/>
            <a:ext cx="885816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Approx. 200 project applicants from all sectors in 2010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Award will be granted to a max of 15 projects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Around 150 applications would not pass the Concept Note stage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The importance of a top quality, easily readable and highly relevant project proposal cannot be understa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46c0a"/>
                </a:solidFill>
                <a:latin typeface="Calibri"/>
              </a:rPr>
              <a:t>Focal points of the EU Cal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11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112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16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Rectangle 19"/>
          <p:cNvSpPr/>
          <p:nvPr/>
        </p:nvSpPr>
        <p:spPr>
          <a:xfrm>
            <a:off x="142920" y="1870200"/>
            <a:ext cx="885816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Increased participation of national banking associations (NBAs) in decision-making, policy implementation and monitoring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Increased cooperation between NBAs inter se on the one    hand and NBAs and public authorities on the other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Increased understanding among employers and employees of the relevant EU </a:t>
            </a:r>
            <a:r>
              <a:rPr b="0" i="1" lang="en-GB" sz="2800" spc="-1" strike="noStrike">
                <a:solidFill>
                  <a:srgbClr val="1f497d"/>
                </a:solidFill>
                <a:latin typeface="Calibri"/>
              </a:rPr>
              <a:t>acquis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and its impa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Quality of particip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26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127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31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Rectangle 16"/>
          <p:cNvSpPr/>
          <p:nvPr/>
        </p:nvSpPr>
        <p:spPr>
          <a:xfrm>
            <a:off x="142920" y="1857240"/>
            <a:ext cx="8858160" cy="38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alibri"/>
              </a:rPr>
              <a:t>Regional cooperation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: Project Partners’ agendas must be  correlated, geared towards jointly meeting the Project’s objecti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alibri"/>
              </a:rPr>
              <a:t>Strength of the public dialogue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: NBAs must develop their  national agendas for action ahead of the project, to tackle jointly with their respective authori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alibri"/>
              </a:rPr>
              <a:t>EU </a:t>
            </a:r>
            <a:r>
              <a:rPr b="1" i="1" lang="en-GB" sz="2800" spc="-1" strike="noStrike">
                <a:solidFill>
                  <a:srgbClr val="1f497d"/>
                </a:solidFill>
                <a:latin typeface="Calibri"/>
              </a:rPr>
              <a:t>acquis </a:t>
            </a:r>
            <a:r>
              <a:rPr b="1" lang="en-GB" sz="2800" spc="-1" strike="noStrike">
                <a:solidFill>
                  <a:srgbClr val="1f497d"/>
                </a:solidFill>
                <a:latin typeface="Calibri"/>
              </a:rPr>
              <a:t>implementation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: should be at the core of the Project’s work programm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Number of Project Part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41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142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46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Rectangle 16"/>
          <p:cNvSpPr/>
          <p:nvPr/>
        </p:nvSpPr>
        <p:spPr>
          <a:xfrm>
            <a:off x="142920" y="1928880"/>
            <a:ext cx="885816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In order to ensure minimum regional co-operation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alibri"/>
              </a:rPr>
              <a:t>At least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three NBAs from the Western Balkans and Turkey must be Project Partner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NBAs from neighbouring regions (e.g., Armenia, Azerbaijan, Moldova, Ukraine, etc.) can participate to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Strict co-funding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56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157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61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Rectangle 1"/>
          <p:cNvSpPr/>
          <p:nvPr/>
        </p:nvSpPr>
        <p:spPr>
          <a:xfrm>
            <a:off x="142920" y="1957320"/>
            <a:ext cx="885816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Each of the Project Consortium Partners should be able to ensure the required co-funding, subject to eligibility criter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Costs of staff assigned to the action may be considered as co-financing in the budget of the action when paid by the Beneficiary or its Partner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The EBF commit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71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172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76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Rectangle 1"/>
          <p:cNvSpPr/>
          <p:nvPr/>
        </p:nvSpPr>
        <p:spPr>
          <a:xfrm>
            <a:off x="142920" y="2055960"/>
            <a:ext cx="8786880" cy="37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Given sufficient interest from the Associates, the EBF stands ready to apply for and run the Project, including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002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Engage the necessary staff to administer and coordinate the project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02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Provide its part of co-funding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02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Ensure the necessary reporting to the European Commission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02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Maintain relations with DG Enlargeme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ABI &amp; BdB maintain their interest supporting this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2T10:04:27Z</dcterms:created>
  <dc:creator>Sanaa Rouiha</dc:creator>
  <dc:description/>
  <dc:language>en-US</dc:language>
  <cp:lastModifiedBy>Viktorija Proskurovska</cp:lastModifiedBy>
  <dcterms:modified xsi:type="dcterms:W3CDTF">2010-05-20T15:43:03Z</dcterms:modified>
  <cp:revision>117</cp:revision>
  <dc:subject/>
  <dc:title>EUROPEAN BANKING FEDER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8226578DF2B3B64A903F9075E79A1D84</vt:lpwstr>
  </property>
</Properties>
</file>